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B6D-B866-4F34-9B67-143A2305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864-18A2-44C7-B7DF-2B5A91D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83B-39B0-4517-8BAD-FDC2087D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D45-1679-4259-88D5-B916B72B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CCB-3D90-4901-967A-19A1642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B8F-E4BC-4406-812A-69B2E69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0B7-7421-4D2E-A9FA-5F26626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A44-3352-4DC3-B6B8-E276AFAC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EF3-C110-4B2B-AB36-E231F550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70D-C55C-4E4D-B75D-0A648A7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DF0-7A7F-4F23-9E18-0FA6A4F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709-AA2D-4CE4-9BE2-CA26AF95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7E5B-396A-469B-B223-4C65FA59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Voc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icroorganism that causes (or can cause)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gi are helpful—you can even eat them–and others are pathogens that will make you sic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athogen invades an organism and begins growing in or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Ashley has a Staph infection.  It’s caused by a pathogen called Staphylococcus aure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ults when a body part, an organ, or an organ system does not function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skin infection on my arm, but it’s being treated so I don’t think it will become diseas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g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dition able to be passed on to another organism (usually by cont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, blindness is not contagio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likely a pathogen is to caus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pathogen is highly virul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related to health that can be noticed by others (often a medical professional).  It can usually b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mperature was 103 degrees Fahrenhe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related to health that is experienced by the patient.  They are usually bodily changes that only the patient notices, but they can be hard to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id that he felt tir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0:41:54Z</dcterms:created>
  <dc:creator>Andrew</dc:creator>
  <dc:description/>
  <dc:language>en-US</dc:language>
  <cp:lastModifiedBy>Andrew</cp:lastModifiedBy>
  <dcterms:modified xsi:type="dcterms:W3CDTF">2014-01-29T15:00:36Z</dcterms:modified>
  <cp:revision>9</cp:revision>
  <dc:subject/>
  <dc:title>Slide 1</dc:title>
</cp:coreProperties>
</file>